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581EF-0B50-4C67-B3D4-7C2FC18CE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F2FDE-A358-4524-9B2C-B682A2355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8B447-D16D-41B2-B16F-60F5500E2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E7680-2E72-4DE6-AB4C-EA33F2AF3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AD2E9-CFA7-4913-B266-9DC6C228C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81637-069E-418D-A6E8-91C49FCE2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4DF17-FD13-426F-8EA9-758D8911C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E6434-6C9C-4052-AFD2-306EBFBEF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498FE-D108-4D92-9ADF-5B7A6B117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0705F-CB00-4F2B-9903-BA6217D57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04899-47EF-4DA4-BE94-BECD8BC9F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E35C7-D999-44A3-938D-481A7CBC1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599E6-5D75-469B-9FE6-B82256BAC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DAFA7-47AF-4D52-A58F-BBB102AF9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4A326-9F06-45EC-98A0-FAC0732C4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87EBC-514E-492B-8307-7FC5FF71A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6D4AD-CE1B-48F0-A8BC-3D6430798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4F0D4-2FDC-4D96-9011-E576B2312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E2747-03B7-4B1F-B287-05BE4296C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126B9-1DC4-4904-86C0-0563F6F18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5BBF9-B5D3-4235-B22C-1DA1B3F93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6BD28-0EDD-43DD-9354-4A07BC572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379C2-8660-4174-BAB2-7204A4CA7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83486-F07D-4306-AEE0-DD994356C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A9D1A-5079-4473-BE44-E5BB1CAA18B1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55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55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55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55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55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55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55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55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55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55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55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556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52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52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5560" cy="1152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5560" cy="1152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55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3B63B-2614-4C49-B9BA-6E127B5B0AA5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50560" y="765000"/>
            <a:ext cx="7273800" cy="165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0066"/>
                </a:solidFill>
                <a:latin typeface="Times New Roman"/>
              </a:rPr>
              <a:t>МИНИСТЕРСТВО СПОРТА РОССИЙСКОЙ ФЕДЕРАЦИИ</a:t>
            </a:r>
            <a:br>
              <a:rPr sz="1400"/>
            </a:br>
            <a:r>
              <a:rPr b="1" lang="ru-RU" sz="1400" spc="-1" strike="noStrike">
                <a:solidFill>
                  <a:srgbClr val="330066"/>
                </a:solidFill>
                <a:latin typeface="Times New Roman"/>
              </a:rPr>
              <a:t>ФГУ "ЦЕНТР СПОРТИВНОЙ ПОДГОТОВКИ СБОРНЫХ КОМАНД РОССИИ" </a:t>
            </a:r>
            <a:br>
              <a:rPr sz="1400"/>
            </a:br>
            <a:r>
              <a:rPr b="1" lang="ru-RU" sz="1400" spc="-1" strike="noStrike">
                <a:solidFill>
                  <a:srgbClr val="330066"/>
                </a:solidFill>
                <a:latin typeface="Times New Roman"/>
              </a:rPr>
              <a:t>ВСЕРОССИЙСКАЯ ФЕДЕРАЦИЯ ЛЕГКОЙ АТЛЕТИКИ</a:t>
            </a:r>
            <a:br>
              <a:rPr sz="1400"/>
            </a:br>
            <a:endParaRPr b="1" lang="en-US" sz="1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250560" y="3049560"/>
            <a:ext cx="7057800" cy="35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Чемпионат России мужчины и женщины, первенство России среди юниоров и юниорок до 20 лет, юношей и девушек до 18 ле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о эстафетному бег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8-11.09.2016 г.                                          г. Адлер ст. «Юность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475920"/>
            <a:ext cx="7543800" cy="115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Чемпионат России мужчины и женщины, первенство России среди юниоров и юниорок до 20 лет, юношей и девушек до 18 лет 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по эстафетному бегу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ГЛАВНАЯ СУДЕЙСКАЯ КОЛЛЕГИЯ</a:t>
            </a:r>
            <a:endParaRPr b="1" lang="en-US" sz="16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826920" y="1989000"/>
          <a:ext cx="7777440" cy="3532320"/>
        </p:xfrm>
        <a:graphic>
          <a:graphicData uri="http://schemas.openxmlformats.org/drawingml/2006/table">
            <a:tbl>
              <a:tblPr/>
              <a:tblGrid>
                <a:gridCol w="2725920"/>
                <a:gridCol w="2652840"/>
                <a:gridCol w="450720"/>
                <a:gridCol w="1947960"/>
              </a:tblGrid>
              <a:tr h="344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ректо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. Казар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ч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5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хделегат ВФ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. Слепченк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стов-на-Дон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лавный судь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. Безъязычный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снода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7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лавный секретар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. Клочко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лгогра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28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м. главного секретар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. Слепченко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стов-на-Дон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3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м. главного судь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. Шуби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снода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м. главного судь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. Па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у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28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м. главного судь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. Беспало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стов-на-Дон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9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м. главного судьи по кадра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. Сокольц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ч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01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м. главного судь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. Болдыре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стов-на-Дон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2T05:41:56Z</dcterms:created>
  <dc:creator>Wl</dc:creator>
  <dc:description/>
  <dc:language>en-US</dc:language>
  <cp:lastModifiedBy>SONY</cp:lastModifiedBy>
  <cp:lastPrinted>2016-09-09T09:45:50Z</cp:lastPrinted>
  <dcterms:modified xsi:type="dcterms:W3CDTF">2016-09-09T10:05:14Z</dcterms:modified>
  <cp:revision>30</cp:revision>
  <dc:subject/>
  <dc:title>ДЕПАРТАМЕНТ ПО ФИЗИЧЕСКОЙ КУЛЬТУРЕ И СПОРТУ  КРАСНОДАРСКОГО КРАЯ ФЕДЕРАЦИЯ ЛЕГКОЙ АТЛЕТИКИ КРАСНОДАРСКОГО КРАЯ КУБАНСКИЙ ГОСУДАРСТВЕННЫЙ УНИВЕРСИТЕТ ФИЗИЧЕСКОЙ КУЛЬТУРЫ, СПОРТА И ТУРИЗМА КАФЕДРА ТЕОРИИ И МЕТОДИКИ ЛЕГКОЙ АТЛЕТИКИ   СПОРТИВНЫЙ КЛУБ  КГУФКСТ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3</vt:r8>
  </property>
</Properties>
</file>